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7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8.xml"/><Relationship Id="rId6" Type="http://schemas.openxmlformats.org/officeDocument/2006/relationships/slide" Target="slide1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.xml"/><Relationship Id="rId3" Type="http://schemas.openxmlformats.org/officeDocument/2006/relationships/slide" Target="slide11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uk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84880" y="5493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ymph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8" idx="3"/>
            <a:endCxn id="100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3" name=""/>
          <p:cNvCxnSpPr>
            <a:stCxn id="98" idx="3"/>
            <a:endCxn id="101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7" idx="3"/>
            <a:endCxn id="158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munmedi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tr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45440" y="549360"/>
            <a:ext cx="68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 Linksverschieb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54936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4" idx="3"/>
            <a:endCxn id="16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5" name=""/>
          <p:cNvCxnSpPr>
            <a:stCxn id="164" idx="3"/>
            <a:endCxn id="16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d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4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erteilung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4" idx="3"/>
            <a:endCxn id="166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9" name=""/>
          <p:cNvCxnSpPr>
            <a:stCxn id="164" idx="3"/>
            <a:endCxn id="167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943560" y="54936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Leukopen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Lymph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4" idx="3"/>
            <a:endCxn id="17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988200" y="549360"/>
            <a:ext cx="41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eukopen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ymph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d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6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ytostatik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2640" y="549360"/>
            <a:ext cx="74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pen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ymph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influss von 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9" idx="3"/>
            <a:endCxn id="18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res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irus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4" idx="3"/>
            <a:endCxn id="18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8" name=""/>
          <p:cNvCxnSpPr>
            <a:stCxn id="184" idx="3"/>
            <a:endCxn id="18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994320" y="549360"/>
            <a:ext cx="43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eukopen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ymph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8400" y="549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pen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ymph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Zerstörung &gt; Einfluss von 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1" idx="3"/>
            <a:endCxn id="19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res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rus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3400" y="549360"/>
            <a:ext cx="64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ukopen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ymphopenie &gt; Zerstörung &gt; Virus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6" idx="3"/>
            <a:endCxn id="19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arvovi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eLV-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IV-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aup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640" y="6153480"/>
            <a:ext cx="322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V = felines Immundefizienz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3" idx="3"/>
            <a:endCxn id="20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835560" y="549360"/>
            <a:ext cx="42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ukopen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ymphopenie &gt; 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351792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test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ymphangiekt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8" idx="3"/>
            <a:endCxn id="209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0" name=""/>
          <p:cNvCxnSpPr>
            <a:stCxn id="208" idx="3"/>
            <a:endCxn id="211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834480" y="549360"/>
            <a:ext cx="55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ukopen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ymphopenie &gt; Verteilung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teilung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hylothorax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ltizentr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hn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8" idx="3"/>
            <a:endCxn id="10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9" name=""/>
          <p:cNvCxnSpPr>
            <a:stCxn id="108" idx="3"/>
            <a:endCxn id="10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930600" y="549360"/>
            <a:ext cx="28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euk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eutr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tr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hn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dung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nochenmark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rginalisatio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eutrophilenpoo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2" idx="3"/>
            <a:endCxn id="11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6" name=""/>
          <p:cNvCxnSpPr>
            <a:stCxn id="112" idx="3"/>
            <a:endCxn id="11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1047600" y="549360"/>
            <a:ext cx="55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Leuk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Neutr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ohne 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nochenmark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hil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9" idx="3"/>
            <a:endCxn id="12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3" name=""/>
          <p:cNvCxnSpPr>
            <a:stCxn id="119" idx="3"/>
            <a:endCxn id="12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1105200" y="549360"/>
            <a:ext cx="69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euk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eutr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ohne Linksverschieb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Knochenmark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trophil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05200" y="549360"/>
            <a:ext cx="69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 Linksverschieb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ildung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nochenmark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orwiegend Neutrophil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3"/>
            <a:endCxn id="12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rühe Knochenmarks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Strahlung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Chemotherapeutika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arvovir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05200" y="549360"/>
            <a:ext cx="69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 Linksverschieb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ildung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nochenmark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2" idx="3"/>
            <a:endCxn id="13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Sulfonam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 Östr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Hun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9" idx="3"/>
            <a:endCxn id="140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arginalisat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eutrophilenpoo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oc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45800" y="54936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 Linksverschieb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Marginalis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des Neutrophilenpoo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t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(Bedarf übersteig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Nachproduktio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3" idx="3"/>
            <a:endCxn id="14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7" name=""/>
          <p:cNvCxnSpPr>
            <a:stCxn id="143" idx="3"/>
            <a:endCxn id="14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046520" y="549360"/>
            <a:ext cx="53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euk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eutr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it 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Bedarf übersteig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chproduktio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45800" y="549360"/>
            <a:ext cx="694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uk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 Linksverschieb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(Bedarf übersteigt Nachproduktio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0" idx="3"/>
            <a:endCxn id="15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iteransamml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Abszess, Empye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eps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6:15:45Z</dcterms:modified>
  <cp:revision>330</cp:revision>
  <dc:subject/>
  <dc:title>Vorstellung einer Neuheit</dc:title>
</cp:coreProperties>
</file>